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D73-684C-4F7D-AC5F-0EED0A6B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CEA-F940-47B7-B66C-2E02C27B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1FC-CD3F-494A-B9B3-272F3E37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3B0-D357-4735-B8D2-8FB0086F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628B-EBC6-4B8B-8151-4A24DA16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232B-6851-4060-8806-F4397899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0284-A057-406D-B5AD-0F41B64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54A-7458-40FE-9299-4BED7FE3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781C-FB28-43ED-B355-BA6E1207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8BAC-3542-4B9A-9C8F-8B0A4475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C458-0FE4-4B88-B3AD-26694F4A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520-915A-4135-B8B2-0C986FD7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D73E-9DCC-40AE-B9FD-C9BF64A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231B-F5DC-4B9F-92EB-E7947C2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99FD-5CD6-45EB-829C-687A42B2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1F40-75A4-4A4D-8A53-C9880D57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7327-2662-4D84-A8DE-5CC51FE4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574-1967-421F-AC08-3B56030C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EC6-B111-46FA-856A-01DDE254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E53-2C5B-42E3-A80E-56A1FDFB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FA4-7FD8-4887-B200-53C99C02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0CC-1548-4C08-8BF0-25B87310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F7A-762C-470F-A211-11DF2FA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C0F-3EC2-4713-8BBB-1A82100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DE68-C449-4801-BB92-77405DAA41E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656-FB32-4D51-B9A5-D7C3AB4F954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kvc20YpXAQ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8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ervat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ise of the Conservativ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980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325" t="0" r="0" b="0"/>
          <a:stretch/>
        </p:blipFill>
        <p:spPr>
          <a:xfrm>
            <a:off x="762120" y="533520"/>
            <a:ext cx="746748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pply-side Econo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crease taxes and reduce spend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ax cuts would increase private investments and stimulate the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rgest tax cuts to the highest incom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reg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duce the size and spending of the federal government by cutting back on the regulation of indust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liminated safety inspections on nursing homes, deregulated the airlines and Savings &amp; Loa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96480"/>
            <a:ext cx="81532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in Social Welfar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ut mass transit, food stamps, welfare benefits, job training, Medicaid, school lunches, and student loans (Cut domestic spending by over $40 billion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on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andom drug testing at gov’t workpla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ut off college loans and public housing to drug offen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ti-drug education in schools “Just say NO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lled drugs “our gravest domestic threat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ong sentences for drug offenders, death penalty for dealers, emphasis on stopping entry at bor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ar on Drugs So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 under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d to Affirmative Action; saw as reverse discrimin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posed abortion and ER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Defense Sp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DI: Strategic Defense Initiative (Star Wars). Keep US safe from enemy missil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till Developing - 20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ational debt went from $900 billion to $4 trillion; interest payments on debt accounted for 21% of budget (more than budget for education, health, environment, agriculture, transportation, space, science, and technology combined!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4038480" cy="670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4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al vs. Conserv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1882800" cy="1650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1882800" cy="1650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9880" y="3733920"/>
            <a:ext cx="13622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Liberalism is a belief that government has a responsibility to actively solve society’s problems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Conservative generally believes that individuals should be given more responsibility to make choices in the area of economics and society’s probl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8571" t="14437" r="857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Conservat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8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acklash against entitlements and Affirmative Action (reverse discrimination?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position to big government progra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utrage at hippie lifestyl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sire for security (Increase defense, limit immigration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510552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they look pretty undocumented to m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of Conserv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hrink the federal govern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duce spend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mote traditional morality and val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rengthen national defen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imulating business by reducing government regulations and lowering corporate tax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rvativ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alition: business leaders, frustrated middle-class voters, fundamentalist Christian grou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lected Ronald Reagan 198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e was an actor, simplified things, very comfortable in front of peop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1980 Presidential commercia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9:20:32Z</dcterms:created>
  <dc:creator>School District U46</dc:creator>
  <dc:description/>
  <dc:language>en-US</dc:language>
  <cp:lastModifiedBy>School District U46</cp:lastModifiedBy>
  <dcterms:modified xsi:type="dcterms:W3CDTF">2013-04-22T12:55:49Z</dcterms:modified>
  <cp:revision>22</cp:revision>
  <dc:subject/>
  <dc:title>   Conservatism</dc:title>
</cp:coreProperties>
</file>